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05F-0BB7-4769-8C14-FC293BC987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139B-EFB6-48A5-BB45-8C73D0AD87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C8A-4180-4E39-AEF9-C4BB231A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742-7B43-4971-96E3-16091B9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E63-07F9-40BF-AE2C-F45E2133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847-C66D-4035-88B2-5775A797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A96-F3F9-4BD6-9ABF-5B5D629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A53-8E80-42C2-AA2E-B4BA4DA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7F3-2410-4726-90C3-0EBB787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295-0A8C-4C91-AAC2-DC6F0DD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957-395E-42CB-9A2C-D7E1F18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736-36B7-4382-AABE-ABEC120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3A7-9738-4102-847C-4803906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A30-DFFD-4E0F-A887-A22EA73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60C-B3BF-4810-AD79-78290CB7C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565920" y="189000"/>
            <a:ext cx="745164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Construire un diaporama selon le scenario suivant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1 : cette diapositive, qui reste inchangé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2 : dans l’ordre (lancement des animations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u clic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e la souris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e texte "SACEM" apparait au centre de la diapositiv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’image copie_privee.jpg entre par le bas et se place sous le text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ette image disparait par la droi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3 : dessin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un objet composit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emblable à l’objet ci-dessou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’objet éclate en au moins quatre morceaux qui partent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u même moment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an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   des directions différ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jout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eux transitions différen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entre diapositives (au choix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66640" y="4230720"/>
            <a:ext cx="8010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llipse 5"/>
          <p:cNvSpPr/>
          <p:nvPr/>
        </p:nvSpPr>
        <p:spPr>
          <a:xfrm>
            <a:off x="4859280" y="2492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llipse 6"/>
          <p:cNvSpPr/>
          <p:nvPr/>
        </p:nvSpPr>
        <p:spPr>
          <a:xfrm>
            <a:off x="826920" y="2492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lipse 7"/>
          <p:cNvSpPr/>
          <p:nvPr/>
        </p:nvSpPr>
        <p:spPr>
          <a:xfrm>
            <a:off x="3708360" y="2492280"/>
            <a:ext cx="647640" cy="649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llipse 8"/>
          <p:cNvSpPr/>
          <p:nvPr/>
        </p:nvSpPr>
        <p:spPr>
          <a:xfrm>
            <a:off x="7740720" y="2492280"/>
            <a:ext cx="647640" cy="6494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à coins arrondis 9"/>
          <p:cNvSpPr/>
          <p:nvPr/>
        </p:nvSpPr>
        <p:spPr>
          <a:xfrm>
            <a:off x="684360" y="836640"/>
            <a:ext cx="3816360" cy="1728720"/>
          </a:xfrm>
          <a:prstGeom prst="roundRect">
            <a:avLst>
              <a:gd name="adj" fmla="val 16667"/>
            </a:avLst>
          </a:prstGeom>
          <a:solidFill>
            <a:srgbClr val="ffc0c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COPIE PRIV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716360" y="1413000"/>
            <a:ext cx="3816360" cy="115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TELECHAR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500720" y="2276640"/>
            <a:ext cx="215640" cy="727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2:56:49Z</dcterms:created>
  <dc:creator>S</dc:creator>
  <dc:description/>
  <dc:language>en-US</dc:language>
  <cp:lastModifiedBy>S</cp:lastModifiedBy>
  <dcterms:modified xsi:type="dcterms:W3CDTF">2013-05-29T10:09:18Z</dcterms:modified>
  <cp:revision>11</cp:revision>
  <dc:subject/>
  <dc:title>Diapositive 1</dc:title>
</cp:coreProperties>
</file>