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D0B8-0F5F-4969-A974-9FD620DB169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948A-7995-4EB1-BABA-EF638F1B6E5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03E4-6DEE-4745-9067-81533CE65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93B0-C9C9-4082-96E2-6A52A0D0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6748-CBC1-49FA-8658-5446F07D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E210-7DE5-4149-8138-2BA070B98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3284-4A6B-4E25-840A-6B20A985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2F1D-2283-48B0-81A4-12BDAF98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C1C8-88F7-4787-A02E-C38E64D0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BD05-702D-481D-A30A-5CA0BEE5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72B6-026C-4F42-8444-A014DE13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536A-147E-45ED-A2C0-C2C3FFF0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F0CB-B119-4BAE-9ACF-A8A0A286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F798-D4F6-4C67-8FFC-7475547E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F149-0839-4B1F-AE4F-56603A5F32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ZoneTexte 3"/>
          <p:cNvSpPr/>
          <p:nvPr/>
        </p:nvSpPr>
        <p:spPr>
          <a:xfrm>
            <a:off x="689760" y="189000"/>
            <a:ext cx="6657480" cy="35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Construire un diaporama selon le scenario suivan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Diapo 1 : cette diapositive, qui reste inchangé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Diapo 2 : dans l’ordre (lancement des animations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au clic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de la souris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Arial"/>
              </a:rPr>
              <a:t>le texte "CONNEXION AU POST" apparait au centre de la diapositiv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Arial"/>
              </a:rPr>
              <a:t>l’image connexion_post.png entre par le haut et se place sous le text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Arial"/>
              </a:rPr>
              <a:t>cette image disparait par le b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Diapo 3 : dessiner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un objet composite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semblable à l’objet ci-dessous, pu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Arial"/>
              </a:rPr>
              <a:t>le wagon vert sort par la gauch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Arial"/>
              </a:rPr>
              <a:t>le wagon bleu sort par la droite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u même moment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Ajouter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deux transitions différentes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entre diapositives (au choix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Image 3" descr="dessin2.png"/>
          <p:cNvPicPr/>
          <p:nvPr/>
        </p:nvPicPr>
        <p:blipFill>
          <a:blip r:embed="rId1"/>
          <a:stretch/>
        </p:blipFill>
        <p:spPr>
          <a:xfrm>
            <a:off x="539640" y="4005360"/>
            <a:ext cx="8012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3T12:56:49Z</dcterms:created>
  <dc:creator>S</dc:creator>
  <dc:description/>
  <dc:language>en-US</dc:language>
  <cp:lastModifiedBy>S</cp:lastModifiedBy>
  <dcterms:modified xsi:type="dcterms:W3CDTF">2013-05-30T15:06:45Z</dcterms:modified>
  <cp:revision>16</cp:revision>
  <dc:subject/>
  <dc:title>Diapositive 1</dc:title>
</cp:coreProperties>
</file>