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190-B2EC-4170-8CB2-DD1BA81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07F-EA2F-42D3-82A1-E1940D6C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7A5-8802-4A2E-9E11-3AD7A742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5EB-214F-4EA7-8FCA-916BC298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CFC-DBAB-48A6-B3D6-D4B88F3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730-6D03-4E57-9552-5013486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2F4-13DE-4CA5-9B69-E7A1A06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277-A939-41BC-93FC-5695405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579-C72C-40A0-A361-756F09F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078-0CED-4831-817E-780EA47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E7D-ECA1-40D9-91DD-08D4BEF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49E-0BD2-4195-9804-FBB0BE6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600-3584-4BC4-97AC-AE8B934A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052640"/>
            <a:ext cx="896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aliser à la suite de cette diapositive le diaporama suivant (insérer de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° de diapositiv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texte est mis sous forme d'items (avec puces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hacun des 6 paragraphes apparaît par un clic.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la f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araît, sur la droite, le graphique issu de l'exercice de tabl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a carte apparaît sur la droite, puis le bateau entre par la gauc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(il est donc invisible au départ) et se dirige vers le por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mais il sombre au milieu de l'écr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radeau remonte vers la surface, puis le bateau de secours arrive jusqu'à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deux rentrent ensemble au 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ort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déroulement des diapositives 3 et 4 sera automatique*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 effet d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votre choix affiche un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nquiè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positive (à créer) avec un arrière plan jaune clair ; y apparaît ensuite le text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même si vous ne savez pas tout faire, faites au mieux ! </a:t>
            </a: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1520" y="182520"/>
            <a:ext cx="73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é Blaise Pascal – Examen O.I. – exercice de PréAO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jet mixte PréAO + Tab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59280" y="5445000"/>
            <a:ext cx="256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ppy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1320" y="18252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eille et sa communau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92280"/>
            <a:ext cx="8964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énagement de l'espace communau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Urbanisme fonc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Infra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Déplacements et transports en comm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Gestion des ports de plai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Voirie et la sign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veloppement écono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Accueil et accompagnement des entre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Soutien à l'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Promotion du terri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me de l'habi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que de la ville et 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 des services d'intérêt colle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Eau et l’assainis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e sta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Crématorium et cimetiè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es abattoirs – le Marché d’Intérêt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de l'environnement et mise en valeur du cadre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Propreté urba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Collecte et le recyclage des déch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a lutte contre la pollution de l’air et les nuisances son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4530600" cy="544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716280"/>
            <a:ext cx="6912000" cy="623880"/>
          </a:xfrm>
          <a:custGeom>
            <a:avLst/>
            <a:gdLst/>
            <a:ahLst/>
            <a:rect l="l" t="t" r="r" b="b"/>
            <a:pathLst>
              <a:path w="4354" h="393">
                <a:moveTo>
                  <a:pt x="0" y="0"/>
                </a:moveTo>
                <a:cubicBezTo>
                  <a:pt x="17" y="73"/>
                  <a:pt x="49" y="135"/>
                  <a:pt x="82" y="202"/>
                </a:cubicBezTo>
                <a:cubicBezTo>
                  <a:pt x="90" y="217"/>
                  <a:pt x="97" y="232"/>
                  <a:pt x="105" y="247"/>
                </a:cubicBezTo>
                <a:cubicBezTo>
                  <a:pt x="112" y="262"/>
                  <a:pt x="114" y="282"/>
                  <a:pt x="127" y="292"/>
                </a:cubicBezTo>
                <a:cubicBezTo>
                  <a:pt x="197" y="344"/>
                  <a:pt x="167" y="322"/>
                  <a:pt x="217" y="359"/>
                </a:cubicBezTo>
                <a:cubicBezTo>
                  <a:pt x="235" y="372"/>
                  <a:pt x="272" y="379"/>
                  <a:pt x="292" y="389"/>
                </a:cubicBezTo>
                <a:cubicBezTo>
                  <a:pt x="423" y="382"/>
                  <a:pt x="397" y="393"/>
                  <a:pt x="479" y="344"/>
                </a:cubicBezTo>
                <a:cubicBezTo>
                  <a:pt x="513" y="287"/>
                  <a:pt x="522" y="243"/>
                  <a:pt x="538" y="180"/>
                </a:cubicBezTo>
                <a:cubicBezTo>
                  <a:pt x="542" y="165"/>
                  <a:pt x="548" y="150"/>
                  <a:pt x="553" y="135"/>
                </a:cubicBezTo>
                <a:cubicBezTo>
                  <a:pt x="556" y="127"/>
                  <a:pt x="561" y="112"/>
                  <a:pt x="561" y="112"/>
                </a:cubicBezTo>
                <a:cubicBezTo>
                  <a:pt x="563" y="95"/>
                  <a:pt x="554" y="71"/>
                  <a:pt x="568" y="60"/>
                </a:cubicBezTo>
                <a:cubicBezTo>
                  <a:pt x="592" y="40"/>
                  <a:pt x="613" y="89"/>
                  <a:pt x="621" y="97"/>
                </a:cubicBezTo>
                <a:cubicBezTo>
                  <a:pt x="658" y="134"/>
                  <a:pt x="699" y="178"/>
                  <a:pt x="740" y="209"/>
                </a:cubicBezTo>
                <a:cubicBezTo>
                  <a:pt x="786" y="279"/>
                  <a:pt x="849" y="244"/>
                  <a:pt x="935" y="239"/>
                </a:cubicBezTo>
                <a:cubicBezTo>
                  <a:pt x="978" y="225"/>
                  <a:pt x="989" y="189"/>
                  <a:pt x="1017" y="157"/>
                </a:cubicBezTo>
                <a:cubicBezTo>
                  <a:pt x="1031" y="141"/>
                  <a:pt x="1062" y="112"/>
                  <a:pt x="1062" y="112"/>
                </a:cubicBezTo>
                <a:cubicBezTo>
                  <a:pt x="1084" y="127"/>
                  <a:pt x="1107" y="142"/>
                  <a:pt x="1129" y="157"/>
                </a:cubicBezTo>
                <a:cubicBezTo>
                  <a:pt x="1137" y="162"/>
                  <a:pt x="1144" y="167"/>
                  <a:pt x="1152" y="172"/>
                </a:cubicBezTo>
                <a:cubicBezTo>
                  <a:pt x="1159" y="177"/>
                  <a:pt x="1174" y="187"/>
                  <a:pt x="1174" y="187"/>
                </a:cubicBezTo>
                <a:cubicBezTo>
                  <a:pt x="1204" y="231"/>
                  <a:pt x="1259" y="274"/>
                  <a:pt x="1309" y="292"/>
                </a:cubicBezTo>
                <a:cubicBezTo>
                  <a:pt x="1550" y="282"/>
                  <a:pt x="1485" y="329"/>
                  <a:pt x="1563" y="194"/>
                </a:cubicBezTo>
                <a:cubicBezTo>
                  <a:pt x="1619" y="213"/>
                  <a:pt x="1547" y="186"/>
                  <a:pt x="1616" y="224"/>
                </a:cubicBezTo>
                <a:cubicBezTo>
                  <a:pt x="1660" y="248"/>
                  <a:pt x="1664" y="232"/>
                  <a:pt x="1713" y="269"/>
                </a:cubicBezTo>
                <a:cubicBezTo>
                  <a:pt x="1756" y="302"/>
                  <a:pt x="1788" y="338"/>
                  <a:pt x="1840" y="359"/>
                </a:cubicBezTo>
                <a:cubicBezTo>
                  <a:pt x="1940" y="350"/>
                  <a:pt x="1917" y="365"/>
                  <a:pt x="1960" y="299"/>
                </a:cubicBezTo>
                <a:cubicBezTo>
                  <a:pt x="1967" y="261"/>
                  <a:pt x="1960" y="231"/>
                  <a:pt x="2005" y="247"/>
                </a:cubicBezTo>
                <a:cubicBezTo>
                  <a:pt x="2047" y="289"/>
                  <a:pt x="2097" y="331"/>
                  <a:pt x="2154" y="352"/>
                </a:cubicBezTo>
                <a:cubicBezTo>
                  <a:pt x="2199" y="349"/>
                  <a:pt x="2245" y="353"/>
                  <a:pt x="2289" y="344"/>
                </a:cubicBezTo>
                <a:cubicBezTo>
                  <a:pt x="2294" y="343"/>
                  <a:pt x="2331" y="263"/>
                  <a:pt x="2334" y="254"/>
                </a:cubicBezTo>
                <a:cubicBezTo>
                  <a:pt x="2354" y="262"/>
                  <a:pt x="2376" y="265"/>
                  <a:pt x="2394" y="277"/>
                </a:cubicBezTo>
                <a:cubicBezTo>
                  <a:pt x="2401" y="282"/>
                  <a:pt x="2408" y="289"/>
                  <a:pt x="2416" y="292"/>
                </a:cubicBezTo>
                <a:cubicBezTo>
                  <a:pt x="2433" y="299"/>
                  <a:pt x="2468" y="307"/>
                  <a:pt x="2468" y="307"/>
                </a:cubicBezTo>
                <a:cubicBezTo>
                  <a:pt x="2634" y="299"/>
                  <a:pt x="2630" y="334"/>
                  <a:pt x="2685" y="224"/>
                </a:cubicBezTo>
                <a:cubicBezTo>
                  <a:pt x="2720" y="237"/>
                  <a:pt x="2755" y="249"/>
                  <a:pt x="2790" y="262"/>
                </a:cubicBezTo>
                <a:cubicBezTo>
                  <a:pt x="2827" y="292"/>
                  <a:pt x="2848" y="315"/>
                  <a:pt x="2902" y="322"/>
                </a:cubicBezTo>
                <a:cubicBezTo>
                  <a:pt x="2940" y="327"/>
                  <a:pt x="3015" y="337"/>
                  <a:pt x="3015" y="337"/>
                </a:cubicBezTo>
                <a:cubicBezTo>
                  <a:pt x="3106" y="326"/>
                  <a:pt x="3138" y="340"/>
                  <a:pt x="3187" y="277"/>
                </a:cubicBezTo>
                <a:cubicBezTo>
                  <a:pt x="3189" y="269"/>
                  <a:pt x="3186" y="256"/>
                  <a:pt x="3194" y="254"/>
                </a:cubicBezTo>
                <a:cubicBezTo>
                  <a:pt x="3252" y="242"/>
                  <a:pt x="3299" y="287"/>
                  <a:pt x="3351" y="299"/>
                </a:cubicBezTo>
                <a:cubicBezTo>
                  <a:pt x="3371" y="304"/>
                  <a:pt x="3391" y="304"/>
                  <a:pt x="3411" y="307"/>
                </a:cubicBezTo>
                <a:cubicBezTo>
                  <a:pt x="3494" y="331"/>
                  <a:pt x="3574" y="348"/>
                  <a:pt x="3658" y="367"/>
                </a:cubicBezTo>
                <a:cubicBezTo>
                  <a:pt x="3705" y="362"/>
                  <a:pt x="3756" y="370"/>
                  <a:pt x="3800" y="352"/>
                </a:cubicBezTo>
                <a:cubicBezTo>
                  <a:pt x="3814" y="346"/>
                  <a:pt x="3805" y="322"/>
                  <a:pt x="3807" y="307"/>
                </a:cubicBezTo>
                <a:cubicBezTo>
                  <a:pt x="3820" y="217"/>
                  <a:pt x="3809" y="278"/>
                  <a:pt x="3822" y="209"/>
                </a:cubicBezTo>
                <a:cubicBezTo>
                  <a:pt x="3864" y="220"/>
                  <a:pt x="3908" y="248"/>
                  <a:pt x="3950" y="254"/>
                </a:cubicBezTo>
                <a:cubicBezTo>
                  <a:pt x="4019" y="265"/>
                  <a:pt x="4084" y="263"/>
                  <a:pt x="4152" y="277"/>
                </a:cubicBezTo>
                <a:cubicBezTo>
                  <a:pt x="4179" y="274"/>
                  <a:pt x="4208" y="277"/>
                  <a:pt x="4234" y="269"/>
                </a:cubicBezTo>
                <a:cubicBezTo>
                  <a:pt x="4244" y="266"/>
                  <a:pt x="4246" y="250"/>
                  <a:pt x="4256" y="247"/>
                </a:cubicBezTo>
                <a:cubicBezTo>
                  <a:pt x="4264" y="244"/>
                  <a:pt x="4307" y="269"/>
                  <a:pt x="4309" y="269"/>
                </a:cubicBezTo>
                <a:cubicBezTo>
                  <a:pt x="4324" y="272"/>
                  <a:pt x="4339" y="269"/>
                  <a:pt x="4354" y="26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  <a:effectLst>
            <a:outerShdw dist="107932" dir="2700000" blurRad="0" rotWithShape="0">
              <a:srgbClr val="33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1368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453060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6912000" cy="623880"/>
          </a:xfrm>
          <a:custGeom>
            <a:avLst/>
            <a:gdLst/>
            <a:ahLst/>
            <a:rect l="l" t="t" r="r" b="b"/>
            <a:pathLst>
              <a:path w="4354" h="393">
                <a:moveTo>
                  <a:pt x="0" y="0"/>
                </a:moveTo>
                <a:cubicBezTo>
                  <a:pt x="17" y="73"/>
                  <a:pt x="49" y="135"/>
                  <a:pt x="82" y="202"/>
                </a:cubicBezTo>
                <a:cubicBezTo>
                  <a:pt x="90" y="217"/>
                  <a:pt x="97" y="232"/>
                  <a:pt x="105" y="247"/>
                </a:cubicBezTo>
                <a:cubicBezTo>
                  <a:pt x="112" y="262"/>
                  <a:pt x="114" y="282"/>
                  <a:pt x="127" y="292"/>
                </a:cubicBezTo>
                <a:cubicBezTo>
                  <a:pt x="197" y="344"/>
                  <a:pt x="167" y="322"/>
                  <a:pt x="217" y="359"/>
                </a:cubicBezTo>
                <a:cubicBezTo>
                  <a:pt x="235" y="372"/>
                  <a:pt x="272" y="379"/>
                  <a:pt x="292" y="389"/>
                </a:cubicBezTo>
                <a:cubicBezTo>
                  <a:pt x="423" y="382"/>
                  <a:pt x="397" y="393"/>
                  <a:pt x="479" y="344"/>
                </a:cubicBezTo>
                <a:cubicBezTo>
                  <a:pt x="513" y="287"/>
                  <a:pt x="522" y="243"/>
                  <a:pt x="538" y="180"/>
                </a:cubicBezTo>
                <a:cubicBezTo>
                  <a:pt x="542" y="165"/>
                  <a:pt x="548" y="150"/>
                  <a:pt x="553" y="135"/>
                </a:cubicBezTo>
                <a:cubicBezTo>
                  <a:pt x="556" y="127"/>
                  <a:pt x="561" y="112"/>
                  <a:pt x="561" y="112"/>
                </a:cubicBezTo>
                <a:cubicBezTo>
                  <a:pt x="563" y="95"/>
                  <a:pt x="554" y="71"/>
                  <a:pt x="568" y="60"/>
                </a:cubicBezTo>
                <a:cubicBezTo>
                  <a:pt x="592" y="40"/>
                  <a:pt x="613" y="89"/>
                  <a:pt x="621" y="97"/>
                </a:cubicBezTo>
                <a:cubicBezTo>
                  <a:pt x="658" y="134"/>
                  <a:pt x="699" y="178"/>
                  <a:pt x="740" y="209"/>
                </a:cubicBezTo>
                <a:cubicBezTo>
                  <a:pt x="786" y="279"/>
                  <a:pt x="849" y="244"/>
                  <a:pt x="935" y="239"/>
                </a:cubicBezTo>
                <a:cubicBezTo>
                  <a:pt x="978" y="225"/>
                  <a:pt x="989" y="189"/>
                  <a:pt x="1017" y="157"/>
                </a:cubicBezTo>
                <a:cubicBezTo>
                  <a:pt x="1031" y="141"/>
                  <a:pt x="1062" y="112"/>
                  <a:pt x="1062" y="112"/>
                </a:cubicBezTo>
                <a:cubicBezTo>
                  <a:pt x="1084" y="127"/>
                  <a:pt x="1107" y="142"/>
                  <a:pt x="1129" y="157"/>
                </a:cubicBezTo>
                <a:cubicBezTo>
                  <a:pt x="1137" y="162"/>
                  <a:pt x="1144" y="167"/>
                  <a:pt x="1152" y="172"/>
                </a:cubicBezTo>
                <a:cubicBezTo>
                  <a:pt x="1159" y="177"/>
                  <a:pt x="1174" y="187"/>
                  <a:pt x="1174" y="187"/>
                </a:cubicBezTo>
                <a:cubicBezTo>
                  <a:pt x="1204" y="231"/>
                  <a:pt x="1259" y="274"/>
                  <a:pt x="1309" y="292"/>
                </a:cubicBezTo>
                <a:cubicBezTo>
                  <a:pt x="1550" y="282"/>
                  <a:pt x="1485" y="329"/>
                  <a:pt x="1563" y="194"/>
                </a:cubicBezTo>
                <a:cubicBezTo>
                  <a:pt x="1619" y="213"/>
                  <a:pt x="1547" y="186"/>
                  <a:pt x="1616" y="224"/>
                </a:cubicBezTo>
                <a:cubicBezTo>
                  <a:pt x="1660" y="248"/>
                  <a:pt x="1664" y="232"/>
                  <a:pt x="1713" y="269"/>
                </a:cubicBezTo>
                <a:cubicBezTo>
                  <a:pt x="1756" y="302"/>
                  <a:pt x="1788" y="338"/>
                  <a:pt x="1840" y="359"/>
                </a:cubicBezTo>
                <a:cubicBezTo>
                  <a:pt x="1940" y="350"/>
                  <a:pt x="1917" y="365"/>
                  <a:pt x="1960" y="299"/>
                </a:cubicBezTo>
                <a:cubicBezTo>
                  <a:pt x="1967" y="261"/>
                  <a:pt x="1960" y="231"/>
                  <a:pt x="2005" y="247"/>
                </a:cubicBezTo>
                <a:cubicBezTo>
                  <a:pt x="2047" y="289"/>
                  <a:pt x="2097" y="331"/>
                  <a:pt x="2154" y="352"/>
                </a:cubicBezTo>
                <a:cubicBezTo>
                  <a:pt x="2199" y="349"/>
                  <a:pt x="2245" y="353"/>
                  <a:pt x="2289" y="344"/>
                </a:cubicBezTo>
                <a:cubicBezTo>
                  <a:pt x="2294" y="343"/>
                  <a:pt x="2331" y="263"/>
                  <a:pt x="2334" y="254"/>
                </a:cubicBezTo>
                <a:cubicBezTo>
                  <a:pt x="2354" y="262"/>
                  <a:pt x="2376" y="265"/>
                  <a:pt x="2394" y="277"/>
                </a:cubicBezTo>
                <a:cubicBezTo>
                  <a:pt x="2401" y="282"/>
                  <a:pt x="2408" y="289"/>
                  <a:pt x="2416" y="292"/>
                </a:cubicBezTo>
                <a:cubicBezTo>
                  <a:pt x="2433" y="299"/>
                  <a:pt x="2468" y="307"/>
                  <a:pt x="2468" y="307"/>
                </a:cubicBezTo>
                <a:cubicBezTo>
                  <a:pt x="2634" y="299"/>
                  <a:pt x="2630" y="334"/>
                  <a:pt x="2685" y="224"/>
                </a:cubicBezTo>
                <a:cubicBezTo>
                  <a:pt x="2720" y="237"/>
                  <a:pt x="2755" y="249"/>
                  <a:pt x="2790" y="262"/>
                </a:cubicBezTo>
                <a:cubicBezTo>
                  <a:pt x="2827" y="292"/>
                  <a:pt x="2848" y="315"/>
                  <a:pt x="2902" y="322"/>
                </a:cubicBezTo>
                <a:cubicBezTo>
                  <a:pt x="2940" y="327"/>
                  <a:pt x="3015" y="337"/>
                  <a:pt x="3015" y="337"/>
                </a:cubicBezTo>
                <a:cubicBezTo>
                  <a:pt x="3106" y="326"/>
                  <a:pt x="3138" y="340"/>
                  <a:pt x="3187" y="277"/>
                </a:cubicBezTo>
                <a:cubicBezTo>
                  <a:pt x="3189" y="269"/>
                  <a:pt x="3186" y="256"/>
                  <a:pt x="3194" y="254"/>
                </a:cubicBezTo>
                <a:cubicBezTo>
                  <a:pt x="3252" y="242"/>
                  <a:pt x="3299" y="287"/>
                  <a:pt x="3351" y="299"/>
                </a:cubicBezTo>
                <a:cubicBezTo>
                  <a:pt x="3371" y="304"/>
                  <a:pt x="3391" y="304"/>
                  <a:pt x="3411" y="307"/>
                </a:cubicBezTo>
                <a:cubicBezTo>
                  <a:pt x="3494" y="331"/>
                  <a:pt x="3574" y="348"/>
                  <a:pt x="3658" y="367"/>
                </a:cubicBezTo>
                <a:cubicBezTo>
                  <a:pt x="3705" y="362"/>
                  <a:pt x="3756" y="370"/>
                  <a:pt x="3800" y="352"/>
                </a:cubicBezTo>
                <a:cubicBezTo>
                  <a:pt x="3814" y="346"/>
                  <a:pt x="3805" y="322"/>
                  <a:pt x="3807" y="307"/>
                </a:cubicBezTo>
                <a:cubicBezTo>
                  <a:pt x="3820" y="217"/>
                  <a:pt x="3809" y="278"/>
                  <a:pt x="3822" y="209"/>
                </a:cubicBezTo>
                <a:cubicBezTo>
                  <a:pt x="3864" y="220"/>
                  <a:pt x="3908" y="248"/>
                  <a:pt x="3950" y="254"/>
                </a:cubicBezTo>
                <a:cubicBezTo>
                  <a:pt x="4019" y="265"/>
                  <a:pt x="4084" y="263"/>
                  <a:pt x="4152" y="277"/>
                </a:cubicBezTo>
                <a:cubicBezTo>
                  <a:pt x="4179" y="274"/>
                  <a:pt x="4208" y="277"/>
                  <a:pt x="4234" y="269"/>
                </a:cubicBezTo>
                <a:cubicBezTo>
                  <a:pt x="4244" y="266"/>
                  <a:pt x="4246" y="250"/>
                  <a:pt x="4256" y="247"/>
                </a:cubicBezTo>
                <a:cubicBezTo>
                  <a:pt x="4264" y="244"/>
                  <a:pt x="4307" y="269"/>
                  <a:pt x="4309" y="269"/>
                </a:cubicBezTo>
                <a:cubicBezTo>
                  <a:pt x="4324" y="272"/>
                  <a:pt x="4339" y="269"/>
                  <a:pt x="4354" y="26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  <a:effectLst>
            <a:outerShdw dist="107932" dir="2700000" blurRad="0" rotWithShape="0">
              <a:srgbClr val="33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5877000"/>
            <a:ext cx="1409760" cy="955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2997360"/>
            <a:ext cx="77148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59:30Z</dcterms:created>
  <dc:creator>S</dc:creator>
  <dc:description/>
  <dc:language>en-US</dc:language>
  <cp:lastModifiedBy>Minnec</cp:lastModifiedBy>
  <dcterms:modified xsi:type="dcterms:W3CDTF">2010-04-03T08:07:46Z</dcterms:modified>
  <cp:revision>38</cp:revision>
  <dc:subject/>
  <dc:title>Diapositive 1</dc:title>
</cp:coreProperties>
</file>