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693-94DA-42F1-A55C-514778E2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EB8-2A75-41D1-9D1A-BFCA7720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AE9-41EB-4246-A619-2B90DA2A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AD6-DCB5-4D30-BD93-AAB6F8A6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881-C2F0-4F6E-9F1D-139138DD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F0F-09A2-4F90-A030-FE10FFD2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FF9-11D9-4588-9C80-124FFEB8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E09-2CDF-4AF6-BA6E-D23D2EAF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DEB-14A2-424C-B6B6-02005855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243-5AC3-4540-AB16-4C10E0E0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B76-D7A7-4103-9159-B112FAFC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DFF-831F-4A20-940F-4488DF8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B647-2D69-42EF-8804-6FCE724C2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3284640"/>
            <a:ext cx="5964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a fin de la troisième étape peut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 présenter comme ci-dess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.B. En cas de difficulté, réalisez au moins certaines des ét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1520" y="182520"/>
            <a:ext cx="73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é Blaise Pascal – Examen O.I. – exercice de Pré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20640"/>
            <a:ext cx="896472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aliser à la suite de cette diapositive le diaporama suiva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s le plafond d’une salle, une trappe s’ouv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e pièce tombe de la trappe sur le so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autres pièces suivent sur le même rythme et s’empilent au so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e main apparaît à droite et emporte les pièc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"fondu" enchaîne sur la diapositive suivante où apparaît le mot "Fin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n utilisera les images ci-contre pour les pièces et la m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451640" y="2060640"/>
            <a:ext cx="1073160" cy="107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2674800" cy="199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84720" y="3716280"/>
            <a:ext cx="27813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0:59:30Z</dcterms:created>
  <dc:creator>S</dc:creator>
  <dc:description/>
  <dc:language>en-US</dc:language>
  <cp:lastModifiedBy>Minnec</cp:lastModifiedBy>
  <dcterms:modified xsi:type="dcterms:W3CDTF">2010-02-17T08:35:47Z</dcterms:modified>
  <cp:revision>19</cp:revision>
  <dc:subject/>
  <dc:title>Diapositive 1</dc:title>
</cp:coreProperties>
</file>