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184-6031-4871-B223-549D0A75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B61-8551-4835-9C7A-DCBEC3E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73B-A5EA-438E-A086-DE40C858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9FE-17FD-4151-ABF6-BCB0FE58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652-7094-4699-A316-414071BE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C7E-2D66-4931-910E-081280E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5AE-9F4E-4851-B6B4-2F8295ED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F48-6478-4374-94B4-3E09BA7C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E85-2C19-4AC3-8B63-FC5E34C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FBD-874E-43BA-85BD-D2EB630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D1B-0578-4A87-B9BE-902A507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8B0-6550-4056-9031-AD04250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A9A-EFBD-4C4F-B2A2-581FD527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aliser un diaporama selon les indications suivant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. L'image climats-du-monde.jpg devra apparaître comme arrière-plan de toutes les diaposit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. Réaliser, à la suite de cette diapositive, trois diapositives présentant différents climats :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.1. Climat équatorial représenté par Kuala Lumpur (Malaisie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     Sur cette diapositive apparaîtront successivement (avec les animations de votre choix) 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la courbe de température* de cette vill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une bulle "Chaud" pointant vers cette ville sur la carte du mond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l'histogramme de précipitation* de cette vill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une bulle "Humide" pointant comme précédemment 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FR" sz="1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* graphiques issus de l'exercice de tableur et placés ici avec une taille adapt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.2. Climat désertique représenté par Tombuktu (M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.3. Climat tempéré humide représenté par Dublin (Irlan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ans ces deux dernières diapositives apparaîtront seulement le nom de la ville comme titre et – avec des animations – les éventuelles bulles "Chaud" ou "Tempéré" et "Sec" ou "Humid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3. Le diaporama enchaînera (transition) en "fondu" sur une dernière diapositive que traversera de gauche à droite le soleil (image ci-contr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24720" y="3141720"/>
            <a:ext cx="1354320" cy="144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2400" y="88920"/>
            <a:ext cx="79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versité Blaise Pascal – UFR LLSH – Outils Informatiques – Exercice de Pré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9:07Z</dcterms:created>
  <dc:creator>alsigayr</dc:creator>
  <dc:description/>
  <dc:language>en-US</dc:language>
  <cp:lastModifiedBy>alsigayr</cp:lastModifiedBy>
  <dcterms:modified xsi:type="dcterms:W3CDTF">2010-03-08T18:51:03Z</dcterms:modified>
  <cp:revision>4</cp:revision>
  <dc:subject/>
  <dc:title>Diapositive 1</dc:title>
</cp:coreProperties>
</file>