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222-E465-4325-B95C-D0216358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777-FA99-427A-BF35-F3F1C54D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6A8-E62A-4692-B466-85132DF1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A92-14A4-479C-8AE2-BB9CE6E8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8CE-E384-4B27-A3A4-4A014E83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F5D5-D62F-430D-A459-449B2BB4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65B-CB57-4ADE-AF23-25F5FDB1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0C5-E816-4075-AA24-86D1453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C59-EF42-4170-9EA8-1FCF46FA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B34-BAD8-4F2C-ABEE-FA7D71AB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5F5-12AD-4C82-9AD6-E9644AE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44C-F064-436F-897C-F18307A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010A-660C-4028-816D-193AEC238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1520" y="182520"/>
            <a:ext cx="73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niversité Blaise Pascal – Examen O.I. – exercice de Pré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909720"/>
            <a:ext cx="896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éaliser, à la suite de ces deux diapositives, le diaporama suivan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aritions successives des mois de printemps, puis de l'arbre en fleu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aritions successives des mois d'été, puis du coquelicot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 cette même diapositive, le soleil parcourt ensuite le ciel de gauche à droite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aritions successives des mois d'automne, puis des feuilles mortes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aritions successives des mois d'hiver, puis du flocon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 "fondu" enchaîne sur la diapositive suivante où apparaît le mot "Fin"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ur chaque saison, les mois apparaissent en venant du bas, l'image associée au moi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vra une animation de votre choix (différente à chaque sais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 utilisera les images de la diapositive suivante qui pourront être librement redimensionnées ;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 mise en page est lib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.B. En cas de difficulté, faites selon vos possibilités !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Il n'est pas interdit de faire un joli diaporama ! </a:t>
            </a:r>
            <a:r>
              <a:rPr b="0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L'image du coquelicot sera aussi insérée dans le document tex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tention : ne faites pas un fichier de trop grande taille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1638000" cy="163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2003400"/>
            <a:ext cx="1440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322280" cy="1320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484360" y="2205000"/>
            <a:ext cx="146700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340000" y="5661000"/>
            <a:ext cx="1863720" cy="99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340000" y="4581360"/>
            <a:ext cx="186696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340000" y="3500280"/>
            <a:ext cx="1866960" cy="99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790040" y="620640"/>
            <a:ext cx="1353960" cy="144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4356000" y="566100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4356000" y="458136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4356000" y="3500280"/>
            <a:ext cx="1863720" cy="99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372360" y="5661000"/>
            <a:ext cx="1863720" cy="993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6372360" y="4581360"/>
            <a:ext cx="186660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6372360" y="3500280"/>
            <a:ext cx="1863720" cy="99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250920" y="4581360"/>
            <a:ext cx="1866960" cy="99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250920" y="5661000"/>
            <a:ext cx="1866960" cy="993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7"/>
          <a:stretch/>
        </p:blipFill>
        <p:spPr>
          <a:xfrm>
            <a:off x="250920" y="3500280"/>
            <a:ext cx="1866960" cy="99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1520" y="182520"/>
            <a:ext cx="73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niversité Blaise Pascal – Examen O.I. – exercice de Pré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46:26Z</dcterms:created>
  <dc:creator>alsigayr</dc:creator>
  <dc:description/>
  <dc:language>en-US</dc:language>
  <cp:lastModifiedBy>Minnec</cp:lastModifiedBy>
  <dcterms:modified xsi:type="dcterms:W3CDTF">2010-04-03T08:22:47Z</dcterms:modified>
  <cp:revision>2</cp:revision>
  <dc:subject/>
  <dc:title>Diapositive 1</dc:title>
</cp:coreProperties>
</file>